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DB59-1485-4F7E-8AE2-432479C9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9487-1B30-47B3-B26E-D9498EE0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609D-16C3-47CE-A53C-D557B57A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7B10-EF80-469D-87FF-62A38BCA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61D-1990-46D0-A187-1C1869A0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FF7C-CD0F-4C36-84D5-07E6305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5D93-322D-41BE-8CDD-47D94FE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53E-33F3-4156-9B91-65DC4694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91F-A59C-466A-A89B-24C3CF7A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DA7-1C0A-4FF6-A538-A7D8FBBB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1A2-4BBC-45D9-9B70-C88C5EE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A6F4-3574-4C2A-A8E2-D57708A0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3E54-2894-4D0F-9348-AE62DCE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03EC-A609-48DB-AF74-8735031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AF3B-6221-4379-9649-D2ED6B8A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AC28-D978-45DB-9ADB-1EF09A4C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7CA2-974D-40C6-84C5-BF1AC344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CC6E-42FE-4408-BB65-8B1B3FC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BC20-F98F-473E-AB92-30BBBFA7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DF3B-1D7B-4215-8C98-D56E5ED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4F4A-CCA2-4E12-8D33-BFF8FBB6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015D-B9F2-459C-BDB2-A099E87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41DA-5C24-4C9D-B0E8-5C3ABB9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4D90-464F-4415-BC83-19B0131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23F-FF95-472F-A929-FD8EF4BD5454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72B-85C2-4A26-8D71-0AE1A030455E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00ff"/>
              </a:buClr>
              <a:buSzPct val="65000"/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7f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pidemiologija masovnih hroničnih nezaraznih bolesti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stent dr sc. med. Nataša Ranči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838080"/>
            <a:ext cx="8915040" cy="5761080"/>
            <a:chOff x="0" y="838080"/>
            <a:chExt cx="8915040" cy="57610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891504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880600" y="2655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7800" y="265572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91600" y="447516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54360" y="505620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4960" y="491004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70960" y="403848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59960" y="446868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0440" y="3208320"/>
              <a:ext cx="2465640" cy="12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ffffff"/>
                  </a:solidFill>
                  <a:latin typeface="Arial"/>
                </a:rPr>
                <a:t>58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ilio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Vodeći uzroci umiranja stanovništva u svetu u 2006.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6172200"/>
            <a:ext cx="228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eventing Chronical disease and vital investm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WHO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108240"/>
            <a:ext cx="1523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HN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il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afd00"/>
                </a:solidFill>
                <a:latin typeface="Arial"/>
              </a:rPr>
              <a:t>Vodeći uzroci umiranja u Srbiji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 i Evrop</a:t>
            </a:r>
            <a:r>
              <a:rPr b="1" lang="sr-Latn-CS" sz="3200" spc="-1" strike="noStrike">
                <a:solidFill>
                  <a:srgbClr val="fafd00"/>
                </a:solidFill>
                <a:latin typeface="Arial"/>
              </a:rPr>
              <a:t>i, 2006. godi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2720" cy="3902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72720" y="5300640"/>
            <a:ext cx="392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20000"/>
                </a:solidFill>
                <a:latin typeface="Arial"/>
              </a:rPr>
              <a:t>Bolesti srca i krvnih sudova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it-IT" sz="9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0" i="1" lang="it-IT" sz="1200" spc="-1" strike="noStrike">
                <a:solidFill>
                  <a:srgbClr val="969696"/>
                </a:solidFill>
                <a:latin typeface="Arial"/>
              </a:rPr>
              <a:t>MKB-10</a:t>
            </a:r>
            <a:r>
              <a:rPr b="0" i="1" lang="sr-Latn-CS" sz="1200" spc="-1" strike="noStrike">
                <a:solidFill>
                  <a:srgbClr val="969696"/>
                </a:solidFill>
                <a:latin typeface="Arial"/>
              </a:rPr>
              <a:t>: </a:t>
            </a:r>
            <a:r>
              <a:rPr b="0" i="1" lang="it-IT" sz="1200" spc="-1" strike="noStrike">
                <a:solidFill>
                  <a:srgbClr val="969696"/>
                </a:solidFill>
                <a:latin typeface="Arial"/>
              </a:rPr>
              <a:t>I00-I99</a:t>
            </a:r>
            <a:r>
              <a:rPr b="0" i="1" lang="it-IT" sz="9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6386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Book Antiqua"/>
              </a:rPr>
              <a:t>Malig</a:t>
            </a:r>
            <a:r>
              <a:rPr b="1" lang="sr-Latn-CS" sz="1800" spc="-1" strike="noStrike">
                <a:solidFill>
                  <a:srgbClr val="00cc00"/>
                </a:solidFill>
                <a:latin typeface="Book Antiqua"/>
              </a:rPr>
              <a:t>ni</a:t>
            </a:r>
            <a:r>
              <a:rPr b="1" lang="en-US" sz="1800" spc="-1" strike="noStrike">
                <a:solidFill>
                  <a:srgbClr val="00cc00"/>
                </a:solidFill>
                <a:latin typeface="Book Antiqua"/>
              </a:rPr>
              <a:t> </a:t>
            </a:r>
            <a:r>
              <a:rPr b="1" lang="sr-Latn-CS" sz="1800" spc="-1" strike="noStrike">
                <a:solidFill>
                  <a:srgbClr val="00cc00"/>
                </a:solidFill>
                <a:latin typeface="Book Antiqua"/>
              </a:rPr>
              <a:t>tumori</a:t>
            </a:r>
            <a:r>
              <a:rPr b="1" lang="sr-Latn-CS" sz="18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i="1" lang="it-IT" sz="1200" spc="-1" strike="noStrike">
                <a:solidFill>
                  <a:srgbClr val="969696"/>
                </a:solidFill>
                <a:latin typeface="Book Antiqua"/>
              </a:rPr>
              <a:t>(MKB-10</a:t>
            </a:r>
            <a:r>
              <a:rPr b="0" i="1" lang="sr-Latn-CS" sz="1200" spc="-1" strike="noStrike">
                <a:solidFill>
                  <a:srgbClr val="969696"/>
                </a:solidFill>
                <a:latin typeface="Book Antiqua"/>
              </a:rPr>
              <a:t>: </a:t>
            </a:r>
            <a:r>
              <a:rPr b="0" i="1" lang="it-IT" sz="1200" spc="-1" strike="noStrike">
                <a:solidFill>
                  <a:srgbClr val="969696"/>
                </a:solidFill>
                <a:latin typeface="Book Antiqua"/>
              </a:rPr>
              <a:t>C00-C97</a:t>
            </a:r>
            <a:r>
              <a:rPr b="0" i="1" lang="sr-Latn-CS" sz="1200" spc="-1" strike="noStrike">
                <a:solidFill>
                  <a:srgbClr val="969696"/>
                </a:solidFill>
                <a:latin typeface="Book Antiqu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5440" y="14875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rb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14875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2160" y="6095880"/>
            <a:ext cx="280188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b000"/>
                </a:solidFill>
                <a:latin typeface="Arial"/>
              </a:rPr>
              <a:t>Povrede i trovanja</a:t>
            </a:r>
            <a:r>
              <a:rPr b="1" lang="sr-Latn-CS" sz="1400" spc="-1" strike="noStrike">
                <a:solidFill>
                  <a:srgbClr val="b4b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b4b000"/>
                </a:solidFill>
                <a:latin typeface="Arial"/>
              </a:rPr>
              <a:t>(MKB-10: S00-T98</a:t>
            </a:r>
            <a:r>
              <a:rPr b="0" i="1" lang="en-US" sz="900" spc="-1" strike="noStrike">
                <a:solidFill>
                  <a:srgbClr val="b4b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51280" y="5343480"/>
            <a:ext cx="203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Dijabetes</a:t>
            </a:r>
            <a:r>
              <a:rPr b="1" lang="sr-Latn-C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MKB-10: E10-E14</a:t>
            </a:r>
            <a:r>
              <a:rPr b="0" i="1" lang="en-US" sz="9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878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a8d0"/>
                </a:solidFill>
                <a:latin typeface="Book Antiqua"/>
              </a:rPr>
              <a:t>HOBP</a:t>
            </a:r>
            <a:r>
              <a:rPr b="1" lang="en-US" sz="1800" spc="-1" strike="noStrike">
                <a:solidFill>
                  <a:srgbClr val="00a8d0"/>
                </a:solidFill>
                <a:latin typeface="Book Antiqua"/>
              </a:rPr>
              <a:t> i ast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6378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stali uzroci smr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lavni faktori rizik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lavni</a:t>
            </a:r>
            <a:r>
              <a:rPr b="1" lang="hr-HR" sz="3200" spc="-1" strike="noStrike">
                <a:solidFill>
                  <a:srgbClr val="fafd00"/>
                </a:solidFill>
                <a:latin typeface="Arial"/>
              </a:rPr>
              <a:t>i faktori rizika za nastanak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hr-HR" sz="3200" spc="-1" strike="noStrike">
                <a:solidFill>
                  <a:srgbClr val="fafd00"/>
                </a:solidFill>
                <a:latin typeface="Arial"/>
              </a:rPr>
              <a:t>HNB su pušenje, hipertenzija, hiperholesterolemija,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zloubotreba </a:t>
            </a:r>
            <a:r>
              <a:rPr b="1" lang="hr-HR" sz="3200" spc="-1" strike="noStrike">
                <a:solidFill>
                  <a:srgbClr val="fafd00"/>
                </a:solidFill>
                <a:latin typeface="Arial"/>
              </a:rPr>
              <a:t>alkohol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hr-HR" sz="3200" spc="-1" strike="noStrike">
                <a:solidFill>
                  <a:srgbClr val="fafd00"/>
                </a:solidFill>
                <a:latin typeface="Arial"/>
              </a:rPr>
              <a:t>, gojaznost, nepravilna ishrana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-povećan unos zasićenih masti i smanjen unos dijetetskih vlakana</a:t>
            </a:r>
            <a:r>
              <a:rPr b="1" lang="hr-HR" sz="3200" spc="-1" strike="noStrike">
                <a:solidFill>
                  <a:srgbClr val="fafd00"/>
                </a:solidFill>
                <a:latin typeface="Arial"/>
              </a:rPr>
              <a:t> i fizička neaktivnos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kundarna (rano otkrivanje i skrinin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cijarna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imarna 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tanak pušen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štovanje i sprovođenje Zakona o zabrani pušenja (smanjivanje ekspozicije duvanskom dim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njivanje telesne teži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ena navika u ishrani: smanjiti unos soli, zasićenih masti, a povećati unos dijetetskih vlaka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ćati fizičku aktivnost (planirana, kontinuirana, redovna fizička aktivnost u trajanju najmanje 30 minuta dnevno, šetnje,pešačenje, plivanje…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ekundarna 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o otkrivanje bolesti I lečenj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rining (kod malignih bolesti, rak dojke, kolorektalni rak, rak grlića materic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rcijarna 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čenje komplikaci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ci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Defini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MHNB su bolesti koje su veoma ra</a:t>
            </a:r>
            <a:r>
              <a:rPr b="0" lang="sr-Latn-CS" sz="3600" spc="-1" strike="noStrike">
                <a:solidFill>
                  <a:srgbClr val="fafd00"/>
                </a:solidFill>
                <a:latin typeface="Arial"/>
              </a:rPr>
              <a:t>š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rene u populaciji (masovne), koje imaju dugotrajni tok (hroni</a:t>
            </a:r>
            <a:r>
              <a:rPr b="0" lang="sr-Latn-CS" sz="3600" spc="-1" strike="noStrike">
                <a:solidFill>
                  <a:srgbClr val="fafd00"/>
                </a:solidFill>
                <a:latin typeface="Arial"/>
              </a:rPr>
              <a:t>č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e) i kod kojih etiolo</a:t>
            </a:r>
            <a:r>
              <a:rPr b="0" lang="sr-Latn-CS" sz="3600" spc="-1" strike="noStrike">
                <a:solidFill>
                  <a:srgbClr val="fafd00"/>
                </a:solidFill>
                <a:latin typeface="Arial"/>
              </a:rPr>
              <a:t>š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ki faktori nisu biolo</a:t>
            </a:r>
            <a:r>
              <a:rPr b="0" lang="sr-Latn-CS" sz="3600" spc="-1" strike="noStrike">
                <a:solidFill>
                  <a:srgbClr val="fafd00"/>
                </a:solidFill>
                <a:latin typeface="Arial"/>
              </a:rPr>
              <a:t>š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ki agensi (nezarazne)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Zajedničke karakteristike MHNB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ljaju se masovno,u epidemijskom, čak i u pandemijskom oblik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 incidenciji, prevalenciji i mortalitetu nalaze se među 10 vodećih uzroka obolevanja i umiranja muškaraca i žena u razvijenim zemljama i u zemljama u razvoj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levanje i umiranje registruje se u svim starosnim grupama, ali postoji tendencija povećanog obolevanja u mlađem uzrast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mopolitski su rasprostranj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zivaju se bolestima civilizacij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njihovom nastanku, toku i ishodu značajnu ulogu imaju faktori sredi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kauzalnost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mukli početak, hroničan to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ju doživotn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grožene su sve kategorije stanovništv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avljaju ozbiljne posledice zbog kojih su česta prevremena penzionisanja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jent često ima istovremeno 2 i više dijagnostikovana obolenja iz grupe MHNB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škovi lečenja pacijenata su veliki I zahtevaju veliko angažovanje zdravstvenih radnik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 uspešnu kontrolu i prevenciju MHNB neophodan je timski r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 prevencije su najvažnije za uspešnu kontrolu MHNB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ška situacija MHNB je nepovolj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HNB-KLINI</a:t>
            </a:r>
            <a:r>
              <a:rPr b="1" lang="sr-Latn-CS" sz="4400" spc="-1" strike="noStrike">
                <a:solidFill>
                  <a:srgbClr val="fafd00"/>
                </a:solidFill>
                <a:latin typeface="Arial"/>
              </a:rPr>
              <a:t>Č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KI ENTITET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diovaskularne bolest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gne bolest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ovaskularne bolest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jabetes meli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ronična obstruktivna bolest pluć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ronična bubrežna insuficijenci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ihoz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lesti zavisnosti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vred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ubni karijes…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21:57:24Z</dcterms:created>
  <dc:creator>AZURE</dc:creator>
  <dc:description/>
  <dc:language>en-US</dc:language>
  <cp:lastModifiedBy>AZURE</cp:lastModifiedBy>
  <dcterms:modified xsi:type="dcterms:W3CDTF">2011-05-17T23:26:47Z</dcterms:modified>
  <cp:revision>22</cp:revision>
  <dc:subject/>
  <dc:title>Epidemiologija masovnih hroničnih nezarazn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2;#Office XP;#67;#PowerPoint - Design Templt 12;#64;#PowerPoint 2003;#184;#Office 2000;#66;#PowerPoint - Design Templt 2003;#79;#Template 12;#65;#Microsoft Office PowerPoint 2007</vt:lpwstr>
  </property>
  <property fmtid="{D5CDD505-2E9C-101B-9397-08002B2CF9AE}" pid="6" name="AssetId">
    <vt:lpwstr>TS001069040</vt:lpwstr>
  </property>
  <property fmtid="{D5CDD505-2E9C-101B-9397-08002B2CF9AE}" pid="7" name="AssetType">
    <vt:lpwstr>TP</vt:lpwstr>
  </property>
  <property fmtid="{D5CDD505-2E9C-101B-9397-08002B2CF9AE}" pid="8" name="AuthoringAssetId">
    <vt:lpwstr>TP001069040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>en-us</vt:lpwstr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5737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Medical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Medical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. SEO Pilot 2008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